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698FE-87AE-4858-BDDF-3790F97AF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3DBD9-B1E4-47C0-964E-8A9B72E0B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F1297-F1E2-495A-B8DD-02B581304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2C580-FCCC-4A83-BEA5-D870499B1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15439-041E-4D52-8E32-6D1A8F5EF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EA033-E9A5-4BE9-BDC8-E5044A647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2BCA3-6915-45EB-96B0-0FD350B5A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11ADA-26F0-4FF2-89AC-C87A384FB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B44E4-8B4E-40A4-874F-012BE0413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842AF-A00B-41BD-8D16-8E66C0C12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8EE1F-C1CF-4284-9AE6-1E56A4A6A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A1AC1-34C0-44A7-9724-F552249EB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99790-FA23-46D5-9C28-E3AAFD977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CCB25-E86D-4221-93F4-013344F63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0D1D9-714B-41AE-9D6E-6C60FE793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5EF9F-8E90-4540-8048-E9B7D3CF6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A6630-9D60-4B53-9F9A-E45C63055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6CB662-34D9-4D21-9F18-A48B3CAABA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A925E9-3EAB-417F-9F6B-1494A45BEA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F9EEEA-D538-4E42-B68E-EE1998A678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34B2A0-A592-4510-A299-69B590F209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6DE84D-6650-4A4D-A9DD-88C34AE69A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41F64-38AE-44BB-B392-833D570B3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F9D68B-A632-4410-B20B-B34D845B64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03E94-6193-4D2E-9D63-3C24076E8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F1350-6418-4564-A3E3-418626F85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45CEC-08B3-427F-9431-34917FF23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53B66-7BD5-4F5D-A25C-0A4AC11546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5006D1-DA87-429F-87CB-6C62CA3C5A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C31976-E74C-4688-AB74-C3F2829B02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9C1B8-490F-4262-8000-966FA2AB5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64196-99E8-454A-ACCA-B0A947D95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B7CA4-C5E2-4FA2-8E1E-13E058570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3153C-A741-459C-BA99-F1AFC1997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8E31F-AC5D-4BB0-83ED-087FA1980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24C0-4D47-4E70-A63D-34E5C1C87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D0EB-29D4-4AAD-A86D-5C26C889D8A1}"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宋体"/>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8B34-C338-49C4-8386-197FCAAE1743}" type="slidenum">
              <a:rPr b="0" lang="zh-CN" sz="1000" spc="-1" strike="noStrike">
                <a:solidFill>
                  <a:srgbClr val="103c72"/>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1981080" y="665280"/>
            <a:ext cx="6007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1953-90E6-4B2E-A03B-FE9FDDF2F212}"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CE58-99EB-4B11-A65A-C5594EFED7D0}"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3" name="ZoneTexte 6"/>
          <p:cNvSpPr/>
          <p:nvPr/>
        </p:nvSpPr>
        <p:spPr>
          <a:xfrm>
            <a:off x="1905120" y="3174840"/>
            <a:ext cx="4698720" cy="326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ff"/>
                </a:solidFill>
                <a:latin typeface="Arial"/>
              </a:rPr>
              <a:t>FOOD SECURITY IN YEMEN</a:t>
            </a:r>
            <a:endParaRPr b="0" lang="en-US" sz="2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ff"/>
                </a:solidFill>
                <a:latin typeface="Arial"/>
              </a:rPr>
              <a:t>Jean-Pierre BROUTIN</a:t>
            </a:r>
            <a:endParaRPr b="0" lang="en-US" sz="20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ff"/>
                </a:solidFill>
                <a:latin typeface="Arial"/>
              </a:rPr>
              <a:t>Attaché</a:t>
            </a:r>
            <a:endParaRPr b="0" lang="en-US" sz="20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ff"/>
                </a:solidFill>
                <a:latin typeface="Arial"/>
              </a:rPr>
              <a:t>Finance &amp; Contracts Section</a:t>
            </a:r>
            <a:endParaRPr b="0" lang="en-US" sz="20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ff"/>
                </a:solidFill>
                <a:latin typeface="Arial"/>
              </a:rPr>
              <a:t>EU Delegation to the Hashemite Kingdom of Jordan and the Republic of Yemen</a:t>
            </a:r>
            <a:endParaRPr b="0" lang="en-US" sz="20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6" descr="Sad'ah people"/>
          <p:cNvPicPr/>
          <p:nvPr/>
        </p:nvPicPr>
        <p:blipFill>
          <a:blip r:embed="rId1"/>
          <a:stretch/>
        </p:blipFill>
        <p:spPr>
          <a:xfrm>
            <a:off x="1155600" y="1600200"/>
            <a:ext cx="6831000" cy="427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4"/>
          <p:cNvGrpSpPr/>
          <p:nvPr/>
        </p:nvGrpSpPr>
        <p:grpSpPr>
          <a:xfrm>
            <a:off x="8317080" y="0"/>
            <a:ext cx="863280" cy="6858000"/>
            <a:chOff x="8317080" y="0"/>
            <a:chExt cx="863280" cy="6858000"/>
          </a:xfrm>
        </p:grpSpPr>
        <p:sp>
          <p:nvSpPr>
            <p:cNvPr id="179" name="Rectangle 5"/>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80" name="Group 6"/>
            <p:cNvGrpSpPr/>
            <p:nvPr/>
          </p:nvGrpSpPr>
          <p:grpSpPr>
            <a:xfrm>
              <a:off x="8317080" y="682560"/>
              <a:ext cx="863280" cy="1224000"/>
              <a:chOff x="8317080" y="682560"/>
              <a:chExt cx="863280" cy="1224000"/>
            </a:xfrm>
          </p:grpSpPr>
          <p:sp>
            <p:nvSpPr>
              <p:cNvPr id="181" name="Rectangle 7"/>
              <p:cNvSpPr/>
              <p:nvPr/>
            </p:nvSpPr>
            <p:spPr>
              <a:xfrm>
                <a:off x="8317080" y="161928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2" name="Rectangle 8"/>
              <p:cNvSpPr/>
              <p:nvPr/>
            </p:nvSpPr>
            <p:spPr>
              <a:xfrm>
                <a:off x="8317080" y="115092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3" name="Rectangle 9"/>
              <p:cNvSpPr/>
              <p:nvPr/>
            </p:nvSpPr>
            <p:spPr>
              <a:xfrm>
                <a:off x="8317080" y="68256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ea typeface="Arial"/>
                  </a:rPr>
                  <a:t>EuropeAid</a:t>
                </a:r>
                <a:endParaRPr b="0" lang="en-US" sz="1300" spc="-1" strike="noStrike">
                  <a:solidFill>
                    <a:srgbClr val="808080"/>
                  </a:solidFill>
                  <a:latin typeface="Arial"/>
                </a:endParaRPr>
              </a:p>
            </p:txBody>
          </p:sp>
        </p:grpSp>
      </p:grpSp>
      <p:sp>
        <p:nvSpPr>
          <p:cNvPr id="18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YEMEN</a:t>
            </a:r>
            <a:endParaRPr b="1" lang="en-US" sz="2400" spc="-1" strike="noStrike">
              <a:solidFill>
                <a:srgbClr val="aa1f1d"/>
              </a:solidFill>
              <a:latin typeface="Verdana"/>
            </a:endParaRPr>
          </a:p>
        </p:txBody>
      </p:sp>
      <p:sp>
        <p:nvSpPr>
          <p:cNvPr id="185"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gn="ct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03c72"/>
                </a:solidFill>
                <a:latin typeface="Verdana"/>
              </a:rPr>
              <a:t>EUROPEAID</a:t>
            </a:r>
            <a:endParaRPr b="0" lang="en-US" sz="2400" spc="-1" strike="noStrike">
              <a:solidFill>
                <a:srgbClr val="103c72"/>
              </a:solidFill>
              <a:latin typeface="Verdana"/>
            </a:endParaRPr>
          </a:p>
          <a:p>
            <a:pPr marL="181080" indent="0" algn="ctr">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03c72"/>
                </a:solidFill>
                <a:latin typeface="Verdana"/>
              </a:rPr>
              <a:t>MEDA</a:t>
            </a:r>
            <a:r>
              <a:rPr b="0" lang="fr-BE" sz="2000" spc="-1" strike="noStrike">
                <a:solidFill>
                  <a:srgbClr val="103c72"/>
                </a:solidFill>
                <a:latin typeface="Verdana"/>
              </a:rPr>
              <a:t> </a:t>
            </a:r>
            <a:r>
              <a:rPr b="1" lang="fr-BE" sz="2000" spc="-1" strike="noStrike">
                <a:solidFill>
                  <a:srgbClr val="103c72"/>
                </a:solidFill>
                <a:latin typeface="Verdana"/>
              </a:rPr>
              <a:t>1995/2007 (on-going) for Yemen</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Allocated:        128.5 M€</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ontracted:      104.5 M€</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aid:                  98.0 M€</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Food Security, Fisheries, Capacity building, Electoral Support, Health, Social Fund for Dpt., Tourism, etc.</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oup 4"/>
          <p:cNvGrpSpPr/>
          <p:nvPr/>
        </p:nvGrpSpPr>
        <p:grpSpPr>
          <a:xfrm>
            <a:off x="8317080" y="0"/>
            <a:ext cx="863280" cy="6858000"/>
            <a:chOff x="8317080" y="0"/>
            <a:chExt cx="863280" cy="6858000"/>
          </a:xfrm>
        </p:grpSpPr>
        <p:sp>
          <p:nvSpPr>
            <p:cNvPr id="187" name="Rectangle 5"/>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88" name="Group 6"/>
            <p:cNvGrpSpPr/>
            <p:nvPr/>
          </p:nvGrpSpPr>
          <p:grpSpPr>
            <a:xfrm>
              <a:off x="8317080" y="682560"/>
              <a:ext cx="863280" cy="1224000"/>
              <a:chOff x="8317080" y="682560"/>
              <a:chExt cx="863280" cy="1224000"/>
            </a:xfrm>
          </p:grpSpPr>
          <p:sp>
            <p:nvSpPr>
              <p:cNvPr id="189" name="Rectangle 7"/>
              <p:cNvSpPr/>
              <p:nvPr/>
            </p:nvSpPr>
            <p:spPr>
              <a:xfrm>
                <a:off x="8317080" y="161928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0" name="Rectangle 8"/>
              <p:cNvSpPr/>
              <p:nvPr/>
            </p:nvSpPr>
            <p:spPr>
              <a:xfrm>
                <a:off x="8317080" y="115092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1" name="Rectangle 9"/>
              <p:cNvSpPr/>
              <p:nvPr/>
            </p:nvSpPr>
            <p:spPr>
              <a:xfrm>
                <a:off x="8317080" y="68256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ea typeface="Arial"/>
                  </a:rPr>
                  <a:t>EuropeAid</a:t>
                </a:r>
                <a:endParaRPr b="0" lang="en-US" sz="1300" spc="-1" strike="noStrike">
                  <a:solidFill>
                    <a:srgbClr val="808080"/>
                  </a:solidFill>
                  <a:latin typeface="Arial"/>
                </a:endParaRPr>
              </a:p>
            </p:txBody>
          </p:sp>
        </p:grpSp>
      </p:grpSp>
      <p:sp>
        <p:nvSpPr>
          <p:cNvPr id="19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YEMEN</a:t>
            </a:r>
            <a:endParaRPr b="1" lang="en-US" sz="2400" spc="-1" strike="noStrike">
              <a:solidFill>
                <a:srgbClr val="aa1f1d"/>
              </a:solidFill>
              <a:latin typeface="Verdana"/>
            </a:endParaRPr>
          </a:p>
        </p:txBody>
      </p:sp>
      <p:sp>
        <p:nvSpPr>
          <p:cNvPr id="193" name="PlaceHolder 2"/>
          <p:cNvSpPr>
            <a:spLocks noGrp="1"/>
          </p:cNvSpPr>
          <p:nvPr>
            <p:ph/>
          </p:nvPr>
        </p:nvSpPr>
        <p:spPr>
          <a:xfrm>
            <a:off x="457200" y="1904760"/>
            <a:ext cx="8229600" cy="39718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03c72"/>
                </a:solidFill>
                <a:latin typeface="Verdana"/>
              </a:rPr>
              <a:t>FOOD</a:t>
            </a:r>
            <a:r>
              <a:rPr b="0" lang="fr-BE" sz="2000" spc="-1" strike="noStrike">
                <a:solidFill>
                  <a:srgbClr val="103c72"/>
                </a:solidFill>
                <a:latin typeface="Verdana"/>
              </a:rPr>
              <a:t> </a:t>
            </a:r>
            <a:r>
              <a:rPr b="1" lang="fr-BE" sz="2000" spc="-1" strike="noStrike">
                <a:solidFill>
                  <a:srgbClr val="103c72"/>
                </a:solidFill>
                <a:latin typeface="Verdana"/>
              </a:rPr>
              <a:t>1997 to 2006 (on-going) for Yemen</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Allocated:     65 M€</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ontracted:  64 M€</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aid:            57.4 M€</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DCI-FOOD 2007 to 2009 (on-going) for Yemen</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Allocated:     19.5 M€</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ontracted:    7 M€</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aid:              2.6 M€</a:t>
            </a: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Group 2"/>
          <p:cNvGrpSpPr/>
          <p:nvPr/>
        </p:nvGrpSpPr>
        <p:grpSpPr>
          <a:xfrm>
            <a:off x="8317080" y="0"/>
            <a:ext cx="863280" cy="6858000"/>
            <a:chOff x="8317080" y="0"/>
            <a:chExt cx="863280" cy="6858000"/>
          </a:xfrm>
        </p:grpSpPr>
        <p:sp>
          <p:nvSpPr>
            <p:cNvPr id="195" name="Rectangle 3"/>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96" name="Group 4"/>
            <p:cNvGrpSpPr/>
            <p:nvPr/>
          </p:nvGrpSpPr>
          <p:grpSpPr>
            <a:xfrm>
              <a:off x="8317080" y="682560"/>
              <a:ext cx="863280" cy="1224000"/>
              <a:chOff x="8317080" y="682560"/>
              <a:chExt cx="863280" cy="1224000"/>
            </a:xfrm>
          </p:grpSpPr>
          <p:sp>
            <p:nvSpPr>
              <p:cNvPr id="197" name="Rectangle 5"/>
              <p:cNvSpPr/>
              <p:nvPr/>
            </p:nvSpPr>
            <p:spPr>
              <a:xfrm>
                <a:off x="8317080" y="161928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8" name="Rectangle 6"/>
              <p:cNvSpPr/>
              <p:nvPr/>
            </p:nvSpPr>
            <p:spPr>
              <a:xfrm>
                <a:off x="8317080" y="115092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9" name="Rectangle 7"/>
              <p:cNvSpPr/>
              <p:nvPr/>
            </p:nvSpPr>
            <p:spPr>
              <a:xfrm>
                <a:off x="8317080" y="68256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ea typeface="Arial"/>
                  </a:rPr>
                  <a:t>EuropeAid</a:t>
                </a:r>
                <a:endParaRPr b="0" lang="en-US" sz="1300" spc="-1" strike="noStrike">
                  <a:solidFill>
                    <a:srgbClr val="808080"/>
                  </a:solidFill>
                  <a:latin typeface="Arial"/>
                </a:endParaRPr>
              </a:p>
            </p:txBody>
          </p:sp>
        </p:grpSp>
      </p:grpSp>
      <p:sp>
        <p:nvSpPr>
          <p:cNvPr id="20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YEMEN</a:t>
            </a:r>
            <a:endParaRPr b="1" lang="en-US" sz="2400" spc="-1" strike="noStrike">
              <a:solidFill>
                <a:srgbClr val="aa1f1d"/>
              </a:solidFill>
              <a:latin typeface="Verdana"/>
            </a:endParaRPr>
          </a:p>
        </p:txBody>
      </p:sp>
      <p:sp>
        <p:nvSpPr>
          <p:cNvPr id="201" name="PlaceHolder 2"/>
          <p:cNvSpPr>
            <a:spLocks noGrp="1"/>
          </p:cNvSpPr>
          <p:nvPr>
            <p:ph/>
          </p:nvPr>
        </p:nvSpPr>
        <p:spPr>
          <a:xfrm>
            <a:off x="457200" y="1600200"/>
            <a:ext cx="8229600" cy="4276800"/>
          </a:xfrm>
          <a:prstGeom prst="rect">
            <a:avLst/>
          </a:prstGeom>
          <a:noFill/>
          <a:ln w="0">
            <a:noFill/>
          </a:ln>
        </p:spPr>
        <p:txBody>
          <a:bodyPr anchor="t">
            <a:normAutofit fontScale="97000"/>
          </a:bodyPr>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03c72"/>
                </a:solidFill>
                <a:latin typeface="Verdana"/>
              </a:rPr>
              <a:t>DCI-YEMEN FOOD SECURITY</a:t>
            </a:r>
            <a:endParaRPr b="0" lang="en-US" sz="24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2010 : 18 M €</a:t>
            </a: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2011 : 20 M €</a:t>
            </a: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2012 : 25 M €</a:t>
            </a: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2013 : 26 M €</a:t>
            </a:r>
            <a:endParaRPr b="0" lang="en-US" sz="2000" spc="-1" strike="noStrike">
              <a:solidFill>
                <a:srgbClr val="103c72"/>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Budget line: 19.100300</a:t>
            </a:r>
            <a:endParaRPr b="0" lang="en-US" sz="2000" spc="-1" strike="noStrike">
              <a:solidFill>
                <a:srgbClr val="103c72"/>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03c72"/>
                </a:solidFill>
                <a:latin typeface="Verdana"/>
              </a:rPr>
              <a:t>FOOD FACILITY</a:t>
            </a:r>
            <a:r>
              <a:rPr b="0" lang="fr-BE" sz="2000" spc="-1" strike="noStrike">
                <a:solidFill>
                  <a:srgbClr val="103c72"/>
                </a:solidFill>
                <a:latin typeface="Verdana"/>
              </a:rPr>
              <a:t>: 18 M€ World Bank</a:t>
            </a:r>
            <a:endParaRPr b="0" lang="en-US" sz="20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                             </a:t>
            </a:r>
            <a:r>
              <a:rPr b="0" lang="fr-BE" sz="2000" spc="-1" strike="noStrike">
                <a:solidFill>
                  <a:srgbClr val="103c72"/>
                </a:solidFill>
                <a:latin typeface="Verdana"/>
              </a:rPr>
              <a:t>3 M€ NGOs</a:t>
            </a:r>
            <a:endParaRPr b="0" lang="en-US" sz="2000" spc="-1" strike="noStrike">
              <a:solidFill>
                <a:srgbClr val="103c72"/>
              </a:solidFill>
              <a:latin typeface="Verdana"/>
            </a:endParaRPr>
          </a:p>
          <a:p>
            <a:pPr lvl="1" marL="720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20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276800"/>
          </a:xfrm>
          <a:prstGeom prst="rect">
            <a:avLst/>
          </a:prstGeom>
          <a:noFill/>
          <a:ln w="0">
            <a:noFill/>
          </a:ln>
        </p:spPr>
        <p:txBody>
          <a:bodyPr anchor="t">
            <a:normAutofit fontScale="92000"/>
          </a:bodyPr>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OD SECURITY PROGRAMMES IN YEMEN</a:t>
            </a:r>
            <a:endParaRPr b="0" lang="en-US" sz="2000" spc="-1" strike="noStrike">
              <a:solidFill>
                <a:srgbClr val="103c72"/>
              </a:solidFill>
              <a:latin typeface="Verdana"/>
            </a:endParaRPr>
          </a:p>
          <a:p>
            <a:pPr marL="166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3c72"/>
                </a:solidFill>
                <a:latin typeface="Verdana"/>
              </a:rPr>
              <a:t>- </a:t>
            </a:r>
            <a:r>
              <a:rPr b="0" lang="en-GB" sz="1600" spc="-1" strike="noStrike">
                <a:solidFill>
                  <a:srgbClr val="103c72"/>
                </a:solidFill>
                <a:latin typeface="Verdana"/>
              </a:rPr>
              <a:t>Improved Water Management in Spate Irrigation Systems Tihama Development Authority, Hodeidah (11 + 5 M€)</a:t>
            </a:r>
            <a:endParaRPr b="0" lang="en-US" sz="16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Integrated FS Project in Marawat District, Wadi Siham area, Hodeidah (Triangle, 1.5 M€)</a:t>
            </a:r>
            <a:endParaRPr b="0" lang="en-US" sz="16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FS project for Fishermen communities in Al Mokha and Dubah (DIA, 1.35 M€)</a:t>
            </a:r>
            <a:endParaRPr b="0" lang="en-US" sz="16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Social Welfare Fund PE + Grant (Support to the purchasing power of those poor most affected by the latest price increase through CCT (4.2 M€)</a:t>
            </a:r>
            <a:endParaRPr b="0" lang="en-US" sz="16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Food Security Information System</a:t>
            </a:r>
            <a:endParaRPr b="0" lang="en-US" sz="16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Basic life support and school health in Sa’ada Governorate</a:t>
            </a:r>
            <a:endParaRPr b="0" lang="en-US" sz="1600" spc="-1" strike="noStrike">
              <a:solidFill>
                <a:srgbClr val="103c72"/>
              </a:solidFill>
              <a:latin typeface="Verdana"/>
            </a:endParaRPr>
          </a:p>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 Improvement of FS through women economic empowerment and capacity building in the Governorate of Taiz and Lahj., etc.</a:t>
            </a:r>
            <a:endParaRPr b="0" lang="en-US" sz="1600" spc="-1" strike="noStrike">
              <a:solidFill>
                <a:srgbClr val="103c72"/>
              </a:solidFill>
              <a:latin typeface="Verdana"/>
            </a:endParaRPr>
          </a:p>
          <a:p>
            <a:pPr marL="166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276800"/>
          </a:xfrm>
          <a:prstGeom prst="rect">
            <a:avLst/>
          </a:prstGeom>
          <a:noFill/>
          <a:ln w="0">
            <a:noFill/>
          </a:ln>
        </p:spPr>
        <p:txBody>
          <a:bodyPr anchor="t">
            <a:normAutofit/>
          </a:bodyPr>
          <a:p>
            <a:pPr lvl="1" marL="838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Current Situation in Yemen</a:t>
            </a:r>
            <a:endParaRPr b="0" lang="en-US" sz="2000" spc="-1" strike="noStrike">
              <a:solidFill>
                <a:srgbClr val="103c72"/>
              </a:solidFill>
              <a:latin typeface="Verdana"/>
            </a:endParaRPr>
          </a:p>
          <a:p>
            <a:pPr lvl="1" marL="838080" indent="-3808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Yemen faces formidable food security challenges including poor agricultural / water practices, limited access and lack of availability. Yemen is a country with severe levels of food insecurity. The Global Hunger Index (GHI) [1] ranks Yemen 80 out of 88 countries analyzed, indicating an “alarming” stage of food insecurity. </a:t>
            </a:r>
            <a:endParaRPr b="0" lang="en-US" sz="2000" spc="-1" strike="noStrike">
              <a:solidFill>
                <a:srgbClr val="103c72"/>
              </a:solidFill>
              <a:latin typeface="Verdana"/>
            </a:endParaRPr>
          </a:p>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u="sng">
                <a:solidFill>
                  <a:srgbClr val="009999"/>
                </a:solidFill>
                <a:uFillTx/>
                <a:latin typeface="Verdana"/>
                <a:hlinkClick r:id="rId1" action="ppaction://hlinksldjump"/>
              </a:rPr>
              <a:t>[1]</a:t>
            </a:r>
            <a:r>
              <a:rPr b="0" lang="en-GB" sz="2000" spc="-1" strike="noStrike">
                <a:solidFill>
                  <a:srgbClr val="103c72"/>
                </a:solidFill>
                <a:latin typeface="Verdana"/>
              </a:rPr>
              <a:t> </a:t>
            </a:r>
            <a:r>
              <a:rPr b="0" lang="en-GB" sz="1600" spc="-1" strike="noStrike">
                <a:solidFill>
                  <a:srgbClr val="000000"/>
                </a:solidFill>
                <a:latin typeface="Verdana"/>
              </a:rPr>
              <a:t>Based on an average of three indicators: the percentage of the population undernourished; the percentage of under-five children underweight; and the under-five mortality rate</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06440" y="1971360"/>
            <a:ext cx="8229600" cy="4886280"/>
          </a:xfrm>
          <a:prstGeom prst="rect">
            <a:avLst/>
          </a:prstGeom>
          <a:noFill/>
          <a:ln w="0">
            <a:noFill/>
          </a:ln>
        </p:spPr>
        <p:txBody>
          <a:bodyPr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Food availability</a:t>
            </a:r>
            <a:r>
              <a:rPr b="0" lang="en-GB" sz="2000" spc="-1" strike="noStrike">
                <a:solidFill>
                  <a:srgbClr val="103c72"/>
                </a:solidFill>
                <a:latin typeface="Verdana"/>
              </a:rPr>
              <a:t> (meaning capacity of an agro-ecological system to meet overall demand for food): Yemen is a net importer of food commodities. Yemen’s net food import bill increased from $104 million in 2001 to $600 million in 2007.</a:t>
            </a:r>
            <a:endParaRPr b="0" lang="en-US" sz="2000" spc="-1" strike="noStrike">
              <a:solidFill>
                <a:srgbClr val="103c72"/>
              </a:solidFill>
              <a:latin typeface="Verdana"/>
            </a:endParaRPr>
          </a:p>
          <a:p>
            <a:pPr marL="177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65% of food products are imported (70% of cereals, 90% of wheat and 100% of rice are imported). Total food imports account to 25% of all import.</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Access to Food </a:t>
            </a:r>
            <a:r>
              <a:rPr b="0" lang="en-GB" sz="2000" spc="-1" strike="noStrike">
                <a:solidFill>
                  <a:srgbClr val="103c72"/>
                </a:solidFill>
                <a:latin typeface="Verdana"/>
              </a:rPr>
              <a:t>(primarily affected by food prices and incomes and the availability of markets):</a:t>
            </a:r>
            <a:r>
              <a:rPr b="1" i="1" lang="en-GB" sz="2000" spc="-1" strike="noStrike">
                <a:solidFill>
                  <a:srgbClr val="103c72"/>
                </a:solidFill>
                <a:latin typeface="Verdana"/>
              </a:rPr>
              <a:t> </a:t>
            </a:r>
            <a:r>
              <a:rPr b="0" lang="en-GB" sz="2000" spc="-1" strike="noStrike">
                <a:solidFill>
                  <a:srgbClr val="103c72"/>
                </a:solidFill>
                <a:latin typeface="Verdana"/>
              </a:rPr>
              <a:t>the number of food insecure people living in rural areas is more than 5 times than in urban areas: 37.3% against 17.7%. The average rural diet is poorly balanced, and micronutrient deficiencies are especially high in rural areas. </a:t>
            </a:r>
            <a:br>
              <a:rPr sz="2000"/>
            </a:br>
            <a:r>
              <a:rPr b="0" lang="en-GB" sz="2000" spc="-1" strike="noStrike">
                <a:solidFill>
                  <a:srgbClr val="103c72"/>
                </a:solidFill>
                <a:latin typeface="Verdana"/>
              </a:rPr>
              <a:t>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7200" y="1803240"/>
            <a:ext cx="8229600" cy="4073760"/>
          </a:xfrm>
          <a:prstGeom prst="rect">
            <a:avLst/>
          </a:prstGeom>
          <a:noFill/>
          <a:ln w="0">
            <a:noFill/>
          </a:ln>
        </p:spPr>
        <p:txBody>
          <a:bodyPr anchor="t">
            <a:normAutofit fontScale="93000"/>
          </a:bodyPr>
          <a:p>
            <a:pPr marL="168120" indent="-168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Use and Utilization </a:t>
            </a:r>
            <a:r>
              <a:rPr b="0" lang="en-GB" sz="2000" spc="-1" strike="noStrike">
                <a:solidFill>
                  <a:srgbClr val="103c72"/>
                </a:solidFill>
                <a:latin typeface="Verdana"/>
              </a:rPr>
              <a:t>(requiring access to adequate health and care), malnutrition remains a serious problem in Yemen. The rate of underweight remains unchanged at 46%. Access to / utilization of health services is inadequate, with close to 55% of women not seeking prenatal health care. This percentage is higher in rural areas 62.1%. </a:t>
            </a:r>
            <a:endParaRPr b="0" lang="en-US" sz="2000" spc="-1" strike="noStrike">
              <a:solidFill>
                <a:srgbClr val="103c72"/>
              </a:solidFill>
              <a:latin typeface="Verdana"/>
            </a:endParaRPr>
          </a:p>
          <a:p>
            <a:pPr marL="168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8120" indent="-168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Nutrition is being addressed through EC’s 2009 Food Security Thematic Programme for Yemen (EUR 7 million) which provides direct support to the nutrition programmes of MOPHP* in collaboration with UNICEF.</a:t>
            </a:r>
            <a:r>
              <a:rPr b="0" lang="fr-FR" sz="2000" spc="-1" strike="noStrike">
                <a:solidFill>
                  <a:srgbClr val="103c72"/>
                </a:solidFill>
                <a:latin typeface="Verdana"/>
              </a:rPr>
              <a:t> </a:t>
            </a:r>
            <a:r>
              <a:rPr b="0" lang="en-GB" sz="2000" spc="-1" strike="noStrike">
                <a:solidFill>
                  <a:srgbClr val="103c72"/>
                </a:solidFill>
                <a:latin typeface="Verdana"/>
              </a:rPr>
              <a:t> </a:t>
            </a:r>
            <a:endParaRPr b="0" lang="en-US" sz="2000" spc="-1" strike="noStrike">
              <a:solidFill>
                <a:srgbClr val="103c72"/>
              </a:solidFill>
              <a:latin typeface="Verdana"/>
            </a:endParaRPr>
          </a:p>
          <a:p>
            <a:pPr marL="168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03c72"/>
                </a:solidFill>
                <a:latin typeface="Verdana"/>
              </a:rPr>
              <a:t>*Ministry of Public Health and Population, Sana’a</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82760" y="191772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pulation growth is among the highest in the world, with an average growth rate of 3.8%. The average Yemeni woman will bear around 6 children un rural areas (total fertility rate of 6.7) and about 4 in urban area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ducation also matters for food security and child nutrition. 3/5th of the total adult population did not attain any level of formal education. 45% in urban areas and 70% of the rural population aged 18 and older did not attend school. Qat consumption diverts household resources away from food, health, and schooling and thus harms the development of childre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69800" y="2082600"/>
            <a:ext cx="8229600" cy="4276440"/>
          </a:xfrm>
          <a:prstGeom prst="rect">
            <a:avLst/>
          </a:prstGeom>
          <a:noFill/>
          <a:ln w="0">
            <a:noFill/>
          </a:ln>
        </p:spPr>
        <p:txBody>
          <a:bodyPr anchor="t">
            <a:normAutofit fontScale="98000"/>
          </a:bodyPr>
          <a:p>
            <a:pPr lvl="1" marL="8211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Qat</a:t>
            </a:r>
            <a:r>
              <a:rPr b="0" lang="en-GB" sz="2000" spc="-1" strike="noStrike">
                <a:solidFill>
                  <a:srgbClr val="103c72"/>
                </a:solidFill>
                <a:latin typeface="Verdana"/>
              </a:rPr>
              <a:t>, a non-food crop, cultivated area in 2008 was 141 thousand hectares (10% of the agricultural land). It utilizes around 30% of the water consumed in crop production and 25% of the irrigated land, meanwhile it constitute more than 40% of the agriculture GDP.  </a:t>
            </a:r>
            <a:endParaRPr b="0" lang="en-US" sz="2000" spc="-1" strike="noStrike">
              <a:solidFill>
                <a:srgbClr val="103c72"/>
              </a:solidFill>
              <a:latin typeface="Verdana"/>
            </a:endParaRPr>
          </a:p>
          <a:p>
            <a:pPr marL="3729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Qat widespread production and consumption severely affects food security in various respects:</a:t>
            </a:r>
            <a:endParaRPr b="0" lang="en-US" sz="1800" spc="-1" strike="noStrike">
              <a:solidFill>
                <a:srgbClr val="103c72"/>
              </a:solidFill>
              <a:latin typeface="Verdana"/>
            </a:endParaRPr>
          </a:p>
          <a:p>
            <a:pPr marL="372960" indent="-3729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t absorbs a significant amount of agricultural production potential and of the scarce water resources. </a:t>
            </a:r>
            <a:endParaRPr b="0" lang="en-US" sz="1800" spc="-1" strike="noStrike">
              <a:solidFill>
                <a:srgbClr val="103c72"/>
              </a:solidFill>
              <a:latin typeface="Verdana"/>
            </a:endParaRPr>
          </a:p>
          <a:p>
            <a:pPr marL="372960" indent="-3729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t diverts a significant share of household income of Qat consumers from nutritive consumption of family members.</a:t>
            </a:r>
            <a:endParaRPr b="0" lang="en-US" sz="1800" spc="-1" strike="noStrike">
              <a:solidFill>
                <a:srgbClr val="103c72"/>
              </a:solidFill>
              <a:latin typeface="Verdana"/>
            </a:endParaRPr>
          </a:p>
          <a:p>
            <a:pPr marL="372960" indent="-3729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It causes serious health hazards.</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31280" y="1600200"/>
            <a:ext cx="8255160" cy="48736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Introduction</a:t>
            </a:r>
            <a:endParaRPr b="0" lang="en-US" sz="2800" spc="-1" strike="noStrike">
              <a:solidFill>
                <a:srgbClr val="103c72"/>
              </a:solidFill>
              <a:latin typeface="Verdana"/>
            </a:endParaRPr>
          </a:p>
          <a:p>
            <a:pPr marL="181080" indent="-181080">
              <a:lnSpc>
                <a:spcPts val="2798"/>
              </a:lnSpc>
              <a:buClr>
                <a:srgbClr val="103c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Yemen was never one State, but since thousands of years a collection of small nomadic kingdoms and tribes. Roma, Ethiopia, Persia, have invaded </a:t>
            </a:r>
            <a:r>
              <a:rPr b="0" i="1" lang="en-US" sz="1800" spc="-1" strike="noStrike">
                <a:solidFill>
                  <a:srgbClr val="103c72"/>
                </a:solidFill>
                <a:latin typeface="Verdana"/>
              </a:rPr>
              <a:t>Arabia Felix</a:t>
            </a:r>
            <a:r>
              <a:rPr b="0" lang="en-US" sz="1800" spc="-1" strike="noStrike">
                <a:solidFill>
                  <a:srgbClr val="103c72"/>
                </a:solidFill>
                <a:latin typeface="Verdana"/>
              </a:rPr>
              <a:t> from 25 BC until the XVIth century as it was a land of wealth and fertility. Then Portugal, Egypt and the United Kingdom, the Ottoman Empire and Saudi Arabia tried also to conquer the country from the XVIth century to the XXth.</a:t>
            </a:r>
            <a:endParaRPr b="0" lang="en-US" sz="1800" spc="-1" strike="noStrike">
              <a:solidFill>
                <a:srgbClr val="103c72"/>
              </a:solidFill>
              <a:latin typeface="Verdana"/>
            </a:endParaRPr>
          </a:p>
          <a:p>
            <a:pPr marL="181080" indent="-181080">
              <a:lnSpc>
                <a:spcPts val="2798"/>
              </a:lnSpc>
              <a:buClr>
                <a:srgbClr val="103c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During the XIXth century, as the Zaidi Imamate collapsed due to internal division, the Ottomans took control of the North Yemen, while the British signed an agreement with the local rulers to create the Aden Protectorate. The area was divided into numerous sultanates, emirates and sheikhdoms.</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2120760"/>
            <a:ext cx="8229600" cy="407376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	</a:t>
            </a:r>
            <a:r>
              <a:rPr b="1" i="1" lang="en-GB" sz="2000" spc="-1" strike="noStrike">
                <a:solidFill>
                  <a:srgbClr val="103c72"/>
                </a:solidFill>
                <a:latin typeface="Verdana"/>
              </a:rPr>
              <a:t>Coffee Production and Trade in Yemen</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offee is one of Yemen’s most strategic agricultural commodities. Most of Yemen’s nearly 100,000 coffee farming families have small coffee plots and live in mountainous regions where about 45 percent of the population is considered below the poverty line (US $2 / day). Coffee is second only to Qat in providing one of the few reliable sources of cash income. In 2006 the export volume was around 2,834 tons and the value for coffee ranged from 3.33 US-$ per kg (Saudi-Arabia) to 7.97 US-$ per kg (US, Japan and Europe); </a:t>
            </a:r>
            <a:br>
              <a:rPr sz="2000"/>
            </a:br>
            <a:r>
              <a:rPr b="0" lang="en-GB" sz="2000" spc="-1" strike="noStrike">
                <a:solidFill>
                  <a:srgbClr val="103c72"/>
                </a:solidFill>
                <a:latin typeface="Verdana"/>
              </a:rPr>
              <a:t>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2425320"/>
            <a:ext cx="8229600" cy="345132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03c72"/>
                </a:solidFill>
                <a:latin typeface="Verdana"/>
              </a:rPr>
              <a:t>Honey Production and Trade</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ince ancient times Yemen has been famous for the excellent quality of its honey. According to MAI sources, Yemen produce 2000 -2500 tons/year by around 75,000 families and exports of honey have exceeded 600 tons per year. 1 kg of Hadramut honey is sold in Sana’a at 11,000 YER (40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Nouvelle image (1)"/>
          <p:cNvPicPr/>
          <p:nvPr/>
        </p:nvPicPr>
        <p:blipFill>
          <a:blip r:embed="rId1"/>
          <a:stretch/>
        </p:blipFill>
        <p:spPr>
          <a:xfrm>
            <a:off x="1690560" y="1628640"/>
            <a:ext cx="5762880" cy="4219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1600200"/>
            <a:ext cx="8229600" cy="4276800"/>
          </a:xfrm>
          <a:prstGeom prst="rect">
            <a:avLst/>
          </a:prstGeom>
          <a:noFill/>
          <a:ln w="0">
            <a:noFill/>
          </a:ln>
        </p:spPr>
        <p:txBody>
          <a:bodyPr anchor="t">
            <a:normAutofit/>
          </a:bodyPr>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3c72"/>
                </a:solidFill>
                <a:latin typeface="Verdana"/>
              </a:rPr>
              <a:t>OBJECTIVES of Yemen Food Security </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3c72"/>
                </a:solidFill>
                <a:latin typeface="Verdana"/>
              </a:rPr>
              <a:t>    </a:t>
            </a:r>
            <a:r>
              <a:rPr b="1" lang="fr-FR" sz="2000" spc="-1" strike="noStrike">
                <a:solidFill>
                  <a:srgbClr val="103c72"/>
                </a:solidFill>
                <a:latin typeface="Verdana"/>
              </a:rPr>
              <a:t>Committee</a:t>
            </a:r>
            <a:r>
              <a:rPr b="0" lang="fr-FR" sz="2000" spc="-1" strike="noStrike">
                <a:solidFill>
                  <a:srgbClr val="103c72"/>
                </a:solidFill>
                <a:latin typeface="Verdana"/>
              </a:rPr>
              <a:t>:</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Macroeconomics, growth and incomes</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Trade and transport</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Agriculture, water and fisheries</a:t>
            </a: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3808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Nutrition, health and education</a:t>
            </a: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93840" y="220968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Macroeconomics, growth and incom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1. Accelerate job creation and pro-food secure growth in</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Verdana"/>
              </a:rPr>
              <a:t>    </a:t>
            </a:r>
            <a:r>
              <a:rPr b="0" lang="en-GB" sz="2000" spc="-1" strike="noStrike">
                <a:solidFill>
                  <a:srgbClr val="103c72"/>
                </a:solidFill>
                <a:latin typeface="Verdana"/>
              </a:rPr>
              <a:t>promising sectors;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2. Foster growth in rural area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3. Encourage non-oil exports and foreign direc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Verdana"/>
              </a:rPr>
              <a:t>investmen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Verdana"/>
              </a:rPr>
              <a:t>4. Improve efficiency of social transfers to support the food insecure, and review existing subsidi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44600" y="234936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Trade and transport:</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1. Improve market access and infrastructure;</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2. Improve technology in food/fish processing using private sector;</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3. Strategize the optimal level of physical storage of cereal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4. Foster trade agreement.</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7200" y="2171520"/>
            <a:ext cx="8229600" cy="427644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Agriculture, water and fisheri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1. Increase productivity in rain-fed and irrigated agriculture; agriculture uses 93% of all water in Yemen (Households 6% and industry 1%)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2. Limit cultivation of qat and promote alternatives (coffee);</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3. Increase rural and urban access to water;</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4. Promote sustainable water management;</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5. Increase productivity in the fisheries sector to fully exploit its potential.</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4"/>
          <p:cNvGrpSpPr/>
          <p:nvPr/>
        </p:nvGrpSpPr>
        <p:grpSpPr>
          <a:xfrm>
            <a:off x="8317080" y="0"/>
            <a:ext cx="863280" cy="6858000"/>
            <a:chOff x="8317080" y="0"/>
            <a:chExt cx="863280" cy="6858000"/>
          </a:xfrm>
        </p:grpSpPr>
        <p:sp>
          <p:nvSpPr>
            <p:cNvPr id="216" name="Rectangle 5"/>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17" name="Group 6"/>
            <p:cNvGrpSpPr/>
            <p:nvPr/>
          </p:nvGrpSpPr>
          <p:grpSpPr>
            <a:xfrm>
              <a:off x="8317080" y="682560"/>
              <a:ext cx="863280" cy="1224000"/>
              <a:chOff x="8317080" y="682560"/>
              <a:chExt cx="863280" cy="1224000"/>
            </a:xfrm>
          </p:grpSpPr>
          <p:sp>
            <p:nvSpPr>
              <p:cNvPr id="218" name="Rectangle 7"/>
              <p:cNvSpPr/>
              <p:nvPr/>
            </p:nvSpPr>
            <p:spPr>
              <a:xfrm>
                <a:off x="8317080" y="161928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19" name="Rectangle 8"/>
              <p:cNvSpPr/>
              <p:nvPr/>
            </p:nvSpPr>
            <p:spPr>
              <a:xfrm>
                <a:off x="8317080" y="115092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20" name="Rectangle 9"/>
              <p:cNvSpPr/>
              <p:nvPr/>
            </p:nvSpPr>
            <p:spPr>
              <a:xfrm>
                <a:off x="8317080" y="682560"/>
                <a:ext cx="863280" cy="287280"/>
              </a:xfrm>
              <a:prstGeom prst="rect">
                <a:avLst/>
              </a:prstGeom>
              <a:solidFill>
                <a:srgbClr val="3a9b3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ea typeface="Arial"/>
                  </a:rPr>
                  <a:t>EuropeAid</a:t>
                </a:r>
                <a:endParaRPr b="0" lang="en-US" sz="1300" spc="-1" strike="noStrike">
                  <a:solidFill>
                    <a:srgbClr val="808080"/>
                  </a:solidFill>
                  <a:latin typeface="Arial"/>
                </a:endParaRPr>
              </a:p>
            </p:txBody>
          </p:sp>
        </p:grpSp>
      </p:grpSp>
      <p:sp>
        <p:nvSpPr>
          <p:cNvPr id="22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TIHAMA</a:t>
            </a:r>
            <a:endParaRPr b="1" lang="en-US" sz="2400" spc="-1" strike="noStrike">
              <a:solidFill>
                <a:srgbClr val="aa1f1d"/>
              </a:solidFill>
              <a:latin typeface="Verdana"/>
            </a:endParaRPr>
          </a:p>
        </p:txBody>
      </p:sp>
      <p:pic>
        <p:nvPicPr>
          <p:cNvPr id="222" name="Picture 11" descr="tihama map"/>
          <p:cNvPicPr/>
          <p:nvPr/>
        </p:nvPicPr>
        <p:blipFill>
          <a:blip r:embed="rId1"/>
          <a:stretch/>
        </p:blipFill>
        <p:spPr>
          <a:xfrm>
            <a:off x="1692360" y="1557360"/>
            <a:ext cx="1800000" cy="2016000"/>
          </a:xfrm>
          <a:prstGeom prst="rect">
            <a:avLst/>
          </a:prstGeom>
          <a:ln w="0">
            <a:noFill/>
          </a:ln>
        </p:spPr>
      </p:pic>
      <p:pic>
        <p:nvPicPr>
          <p:cNvPr id="223" name="Picture 12" descr="tihama fishermen"/>
          <p:cNvPicPr/>
          <p:nvPr/>
        </p:nvPicPr>
        <p:blipFill>
          <a:blip r:embed="rId2"/>
          <a:stretch/>
        </p:blipFill>
        <p:spPr>
          <a:xfrm>
            <a:off x="5148360" y="1484280"/>
            <a:ext cx="2592360" cy="2160720"/>
          </a:xfrm>
          <a:prstGeom prst="rect">
            <a:avLst/>
          </a:prstGeom>
          <a:ln w="0">
            <a:noFill/>
          </a:ln>
        </p:spPr>
      </p:pic>
      <p:pic>
        <p:nvPicPr>
          <p:cNvPr id="224" name="Picture 13" descr="Yemen woman2"/>
          <p:cNvPicPr/>
          <p:nvPr/>
        </p:nvPicPr>
        <p:blipFill>
          <a:blip r:embed="rId3"/>
          <a:stretch/>
        </p:blipFill>
        <p:spPr>
          <a:xfrm>
            <a:off x="1763640" y="3789360"/>
            <a:ext cx="1800360" cy="2664000"/>
          </a:xfrm>
          <a:prstGeom prst="rect">
            <a:avLst/>
          </a:prstGeom>
          <a:ln w="0">
            <a:noFill/>
          </a:ln>
        </p:spPr>
      </p:pic>
      <p:pic>
        <p:nvPicPr>
          <p:cNvPr id="225" name="Picture 14" descr="Yemen Wadu Mawr"/>
          <p:cNvPicPr/>
          <p:nvPr/>
        </p:nvPicPr>
        <p:blipFill>
          <a:blip r:embed="rId4"/>
          <a:stretch/>
        </p:blipFill>
        <p:spPr>
          <a:xfrm>
            <a:off x="3797280" y="3738600"/>
            <a:ext cx="4680000" cy="280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31640" y="195588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Nutrition, health and educat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1. Improve nutrition, especially for women and children;</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2. Improve health services, especially in rural area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3. Reduce population growth through family planning;</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4. Achieve education for all, with emphasis on girl’s schooling;</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5. Foster links between nutrition, health and education.</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1600200"/>
            <a:ext cx="8229600" cy="4276800"/>
          </a:xfrm>
          <a:prstGeom prst="rect">
            <a:avLst/>
          </a:prstGeom>
          <a:noFill/>
          <a:ln w="0">
            <a:noFill/>
          </a:ln>
        </p:spPr>
        <p:txBody>
          <a:bodyPr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3c72"/>
                </a:solidFill>
                <a:latin typeface="Verdana"/>
              </a:rPr>
              <a:t>SUMMARY:</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lack of recent information about food security is of concern to many countries and to Yemen, especially during and after crises and conflicts. It’s why FSIS will receive more funds in 2010.</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Yemen’s food security has dramatically deteriorated in recent years at both macro- and household levels.</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ccelerating growth that benefits the poor and food insecure is necessary but not sufficient. Yemen will need additional policies and investments.</a:t>
            </a:r>
            <a:endParaRPr b="0" lang="en-US" sz="20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82400" y="1600200"/>
            <a:ext cx="8204040" cy="48988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 1962, the Crown Prince was deposed by revolutionary forces who created in Sana’a the </a:t>
            </a:r>
            <a:r>
              <a:rPr b="0" i="1" lang="en-GB" sz="2000" spc="-1" strike="noStrike">
                <a:solidFill>
                  <a:srgbClr val="103c72"/>
                </a:solidFill>
                <a:latin typeface="Verdana"/>
              </a:rPr>
              <a:t>Yemen Arab Republic</a:t>
            </a:r>
            <a:r>
              <a:rPr b="0" lang="en-GB" sz="2000" spc="-1" strike="noStrike">
                <a:solidFill>
                  <a:srgbClr val="103c72"/>
                </a:solidFill>
                <a:latin typeface="Verdana"/>
              </a:rPr>
              <a:t> with the assistance of Egypt. During the 60s, the National Liberation Front forced the British to leave Aden. On December 1967, the South was renamed the </a:t>
            </a:r>
            <a:r>
              <a:rPr b="0" i="1" lang="en-GB" sz="2000" spc="-1" strike="noStrike">
                <a:solidFill>
                  <a:srgbClr val="103c72"/>
                </a:solidFill>
                <a:latin typeface="Verdana"/>
              </a:rPr>
              <a:t>People’s Democratic Republic of Yemen</a:t>
            </a:r>
            <a:r>
              <a:rPr b="0" lang="en-GB" sz="2000" spc="-1" strike="noStrike">
                <a:solidFill>
                  <a:srgbClr val="103c72"/>
                </a:solidFill>
                <a:latin typeface="Verdana"/>
              </a:rPr>
              <a:t>. The </a:t>
            </a:r>
            <a:r>
              <a:rPr b="0" i="1" lang="en-GB" sz="2000" spc="-1" strike="noStrike">
                <a:solidFill>
                  <a:srgbClr val="103c72"/>
                </a:solidFill>
                <a:latin typeface="Verdana"/>
              </a:rPr>
              <a:t>Republic of Yemen</a:t>
            </a:r>
            <a:r>
              <a:rPr b="0" lang="en-GB" sz="2000" spc="-1" strike="noStrike">
                <a:solidFill>
                  <a:srgbClr val="103c72"/>
                </a:solidFill>
                <a:latin typeface="Verdana"/>
              </a:rPr>
              <a:t> is born only in May 1990, when South and North reunified. However, the GoY faced a civil war in 1994 with the South, and now a new separatist Southern Movement tries to divide the country, while the Houthis tribe in the North is fighting the GoY since 6 years with a stronger conflict since August 2009. In addition, the GoY is facing the Al-Qaida branch in Magreb, supported by other influential trib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44600" y="18414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CONCLUSIO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s Yemen will remain highly vulnerable to external shocks (World economic crisis) and internal conflicts (civil war and +), LRRD should be strengthened at HQs and delegation level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CHO in Amman and AIDCO in Sana’a have an « ad hoc » relationship which works well thanks to good personal relationship. However, the creation of a Crisis Management Group (CMG) and a Cris Fund (FDC) is very welcomed by all the countries facing food insecurity.</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1599840"/>
            <a:ext cx="8229600" cy="478476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However, a better donor coordination not only at the level of funding, but also at the level of tools, should be strengthened.</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For example, FAO is using IPC (Integrated Phase Classification) a common approach shared by 8 major UN Agencies, JRC, INGOs and ECHO. IPC classifies a situation of food security in 5 phases: Generally food secure,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Verdana"/>
              </a:rPr>
              <a:t>Moderately/Borderline Food Insecure, Acute Food and Livelihood Crisis, Humanitarian Emergency, and Famine/Humanitarian Catastrophe.</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Verdana"/>
              </a:rPr>
              <a:t>But, LLRD has a Crisis Cycle of 7 phases ! Why?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1994040"/>
            <a:ext cx="8229600" cy="1914480"/>
          </a:xfrm>
          <a:prstGeom prst="rect">
            <a:avLst/>
          </a:prstGeom>
          <a:noFill/>
          <a:ln w="0">
            <a:noFill/>
          </a:ln>
        </p:spPr>
        <p:txBody>
          <a:bodyPr anchor="t">
            <a:normAutofit/>
          </a:bodyPr>
          <a:p>
            <a:pPr algn="ctr">
              <a:lnSpc>
                <a:spcPts val="2798"/>
              </a:lnSpc>
              <a:buClr>
                <a:srgbClr val="fc443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4436"/>
                </a:solidFill>
                <a:latin typeface="Verdana"/>
              </a:rPr>
              <a:t>Where is the link between ECHO </a:t>
            </a:r>
            <a:endParaRPr b="0" lang="en-US" sz="28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4436"/>
                </a:solidFill>
                <a:latin typeface="Verdana"/>
              </a:rPr>
              <a:t>and AIDCO in YEMEN ?</a:t>
            </a:r>
            <a:endParaRPr b="0" lang="en-US" sz="28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c4436"/>
                </a:solidFill>
                <a:latin typeface="Wingdings"/>
                <a:ea typeface="Wingdings"/>
              </a:rPr>
              <a:t></a:t>
            </a:r>
            <a:endParaRPr b="0" lang="en-US" sz="4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c4436"/>
                </a:solidFill>
                <a:latin typeface="Verdana"/>
              </a:rPr>
              <a:t>Discussions !...</a:t>
            </a:r>
            <a:endParaRPr b="0" lang="en-US" sz="4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c4436"/>
                </a:solidFill>
                <a:latin typeface="Verdana"/>
              </a:rPr>
              <a:t>The End.</a:t>
            </a:r>
            <a:endParaRPr b="0" lang="en-US" sz="4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828800"/>
            <a:ext cx="8229600" cy="4276800"/>
          </a:xfrm>
          <a:prstGeom prst="rect">
            <a:avLst/>
          </a:prstGeom>
          <a:noFill/>
          <a:ln w="0">
            <a:noFill/>
          </a:ln>
        </p:spPr>
        <p:txBody>
          <a:bodyPr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history of Yemen is important to understand this fragile State. On paper the Republic exists, but in reality the power of the sheikhs are still very strong. </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conomic growth averaged 3.8% from 2000 to 2007. The public sector represents 30% of the workforce and contributes 40% to the total per capita wage income nationwide. However, this growth is challenged by declining oil reserves and the GoY prepares 100,000 cut-offs in the public sector, and reduction in subsidies. </a:t>
            </a:r>
            <a:endParaRPr b="0" lang="en-US" sz="2000" spc="-1" strike="noStrike">
              <a:solidFill>
                <a:srgbClr val="103c72"/>
              </a:solidFill>
              <a:latin typeface="Verdana"/>
            </a:endParaRPr>
          </a:p>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Most of the public staff are unoccupied, unqualified thus demotivated. (40% of staff from the Health Ministry don’t go to office but receive a normal salary).</a:t>
            </a:r>
            <a:endParaRPr b="0" lang="en-US" sz="20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5" descr="yc301f0"/>
          <p:cNvPicPr/>
          <p:nvPr/>
        </p:nvPicPr>
        <p:blipFill>
          <a:blip r:embed="rId1"/>
          <a:stretch/>
        </p:blipFill>
        <p:spPr>
          <a:xfrm>
            <a:off x="639720" y="1255680"/>
            <a:ext cx="7812000" cy="560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206208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03c72"/>
                </a:solidFill>
                <a:latin typeface="Verdana"/>
              </a:rPr>
              <a:t>Yemen Population: 21.4 M. Urban population: 26%</a:t>
            </a:r>
            <a:endParaRPr b="0" lang="en-US" sz="18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03c72"/>
                </a:solidFill>
                <a:latin typeface="Verdana"/>
              </a:rPr>
              <a:t>0 to 14 years: 46,4% ; 15 to 64: 51% - Over 64 years: 2.6%</a:t>
            </a:r>
            <a:endParaRPr b="0" lang="en-US" sz="18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03c72"/>
                </a:solidFill>
                <a:latin typeface="Verdana"/>
              </a:rPr>
              <a:t>Rate of child mortality: 59.9/1000.</a:t>
            </a:r>
            <a:endParaRPr b="0" lang="en-US" sz="1800" spc="-1" strike="noStrike">
              <a:solidFill>
                <a:srgbClr val="103c72"/>
              </a:solidFill>
              <a:latin typeface="Verdana"/>
            </a:endParaRPr>
          </a:p>
        </p:txBody>
      </p:sp>
      <p:pic>
        <p:nvPicPr>
          <p:cNvPr id="169" name="Picture 6" descr="Population"/>
          <p:cNvPicPr/>
          <p:nvPr/>
        </p:nvPicPr>
        <p:blipFill>
          <a:blip r:embed="rId1"/>
          <a:stretch/>
        </p:blipFill>
        <p:spPr>
          <a:xfrm>
            <a:off x="2114640" y="3009960"/>
            <a:ext cx="3935160" cy="313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37F8-A62F-45DB-883E-0EA65B386C37}"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1" name="ZoneTexte 2"/>
          <p:cNvSpPr/>
          <p:nvPr/>
        </p:nvSpPr>
        <p:spPr>
          <a:xfrm>
            <a:off x="1511280" y="3249720"/>
            <a:ext cx="619776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172" name="Picture 5" descr="Sa'dah"/>
          <p:cNvPicPr/>
          <p:nvPr/>
        </p:nvPicPr>
        <p:blipFill>
          <a:blip r:embed="rId1"/>
          <a:stretch/>
        </p:blipFill>
        <p:spPr>
          <a:xfrm>
            <a:off x="1407960" y="1951200"/>
            <a:ext cx="5616720" cy="3214440"/>
          </a:xfrm>
          <a:prstGeom prst="rect">
            <a:avLst/>
          </a:prstGeom>
          <a:ln w="0">
            <a:noFill/>
          </a:ln>
        </p:spPr>
      </p:pic>
      <p:sp>
        <p:nvSpPr>
          <p:cNvPr id="173" name="PlaceHolder 1"/>
          <p:cNvSpPr>
            <a:spLocks noGrp="1"/>
          </p:cNvSpPr>
          <p:nvPr>
            <p:ph type="title"/>
          </p:nvPr>
        </p:nvSpPr>
        <p:spPr>
          <a:xfrm>
            <a:off x="698400" y="1596960"/>
            <a:ext cx="7772400" cy="33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Verdana"/>
              </a:rPr>
              <a:t>SAD’AH – </a:t>
            </a:r>
            <a:r>
              <a:rPr b="1" lang="en-US" sz="2000" spc="-1" strike="noStrike">
                <a:solidFill>
                  <a:srgbClr val="0000ff"/>
                </a:solidFill>
                <a:latin typeface="Verdana"/>
              </a:rPr>
              <a:t>Conflict</a:t>
            </a:r>
            <a:r>
              <a:rPr b="1" lang="fr-FR" sz="2000" spc="-1" strike="noStrike">
                <a:solidFill>
                  <a:srgbClr val="0000ff"/>
                </a:solidFill>
                <a:latin typeface="Verdana"/>
              </a:rPr>
              <a:t> zone</a:t>
            </a:r>
            <a:endParaRPr b="1" lang="en-US" sz="2000" spc="-1" strike="noStrike">
              <a:solidFill>
                <a:srgbClr val="aa1f1d"/>
              </a:solidFill>
              <a:latin typeface="Verdana"/>
            </a:endParaRPr>
          </a:p>
        </p:txBody>
      </p:sp>
      <p:sp>
        <p:nvSpPr>
          <p:cNvPr id="174" name="PlaceHolder 2"/>
          <p:cNvSpPr>
            <a:spLocks noGrp="1"/>
          </p:cNvSpPr>
          <p:nvPr>
            <p:ph type="subTitle"/>
          </p:nvPr>
        </p:nvSpPr>
        <p:spPr>
          <a:xfrm>
            <a:off x="609480" y="5257440"/>
            <a:ext cx="7594560" cy="1320840"/>
          </a:xfrm>
          <a:prstGeom prst="rect">
            <a:avLst/>
          </a:prstGeom>
          <a:noFill/>
          <a:ln w="0">
            <a:noFill/>
          </a:ln>
        </p:spPr>
        <p:txBody>
          <a:bodyPr anchor="t">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ECHO AMMAN</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2010 : 10 M€ for 280,000 IDPs through HCR,</a:t>
            </a:r>
            <a:endParaRPr b="0" lang="en-US" sz="20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WFP, ICRC, MDM, OCHA, CARE and OXFAM</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civil war Sadah"/>
          <p:cNvPicPr/>
          <p:nvPr/>
        </p:nvPicPr>
        <p:blipFill>
          <a:blip r:embed="rId1"/>
          <a:stretch/>
        </p:blipFill>
        <p:spPr>
          <a:xfrm>
            <a:off x="1836720" y="1600200"/>
            <a:ext cx="5469120" cy="427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69800" y="1510920"/>
            <a:ext cx="8229600" cy="4746600"/>
          </a:xfrm>
          <a:prstGeom prst="rect">
            <a:avLst/>
          </a:prstGeom>
          <a:noFill/>
          <a:ln w="0">
            <a:noFill/>
          </a:ln>
        </p:spPr>
        <p:txBody>
          <a:bodyPr anchor="t">
            <a:normAutofit/>
          </a:bodyPr>
          <a:p>
            <a:pPr marL="181080" indent="-181080" algn="ct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3c72"/>
                </a:solidFill>
                <a:latin typeface="Verdana"/>
              </a:rPr>
              <a:t>ECHO</a:t>
            </a:r>
            <a:endParaRPr b="0" lang="en-US" sz="24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ince 1994, the EU has provided over €23 million in humanitarian aid to help the most vulnerable population in Yemen to survive conflicts, displacements and natural disasters (North Yemen: Saadah and Amran): 250,000 IDP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ousand of refugees from the Horn of Africa also benefit from the aid (mainly 162,000 refugees from Somalia in Lahaj Governorate, North West of Aden).</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In addition, acute malnutrition reaches alarming levels in many parts of the country.</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albyflores_v</cp:lastModifiedBy>
  <cp:lastPrinted>2003-11-06T16:40:02Z</cp:lastPrinted>
  <dcterms:modified xsi:type="dcterms:W3CDTF">2010-07-19T12:07:10Z</dcterms:modified>
  <cp:revision>899</cp:revision>
  <dc:subject/>
  <dc:title>No Slide Title</dc:title>
</cp:coreProperties>
</file>